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8102-BDFF-4BA7-BA88-8EB7ADA744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10C6-C381-4208-A15B-630682DCAF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CC52-4593-4B74-AEFA-2641369FA9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35B-B786-48B0-9CDE-37D6F2DB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117-A505-4FC4-8BBB-3926AB7D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6067-4993-4E0A-A3D0-908013748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CF9-78F6-43FC-9783-9BD24A32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7ED5C-7159-464C-A32F-4FA9E7D8005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11758-5223-4E37-93E6-04AFB8AE28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418FD-367A-4D0E-A571-57D13ACA336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8EAF-472F-4C6E-A889-0BDF123E24E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5C00-9090-4AB1-9607-5675AE56B0E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7830-889A-4C8A-967E-53461FC2AF7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4859-E3A0-4A23-BB0B-95311C4E027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115A7-1B05-4048-9924-74D4090A62B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F7E9-529D-44F7-B5F4-93096BC938B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B0B8-4910-4DFF-9807-40ACDB399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370-4AAC-4D38-BA1D-9BCDBD98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7393-98F3-41B1-9158-B2232FBDDBB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FCA-0076-460F-A521-CEF11115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214-4DF0-4D13-8F0F-2E5FECAF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B2E65-C2F1-42F0-A51B-571FF598EA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9C474-D873-4878-9170-0786BF0CCD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10EA1-0653-44C4-B866-3E7109315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B3B-71E4-441A-80B3-64A80F68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130FD-BFBA-4167-96A9-A1EFD889FD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45817-4705-4643-96C4-C93A59B522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17898-284A-4878-9942-1207EC9AD3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8001B-9987-4CCC-8AD6-7DCC2C0F3F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0C50E-DCF6-48B4-A0F7-A5E8785E46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A1941-1C19-4CF4-BF5D-600F7C36AF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B313E-1747-49E0-8F1F-3DB38B08D0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01BE4-28E1-4C4E-A55E-55085E076A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1ED58-578B-421A-86B6-478CC72C23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5C627-68B6-4022-AFB2-3FAF7BE5D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0AA-4A10-4572-B016-17FBFD08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799E4E-BDD8-4820-A98C-C584EDE32B5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6E04C7-B286-4B4A-9A05-F3DCF98A382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F8E6E-7EE6-4B15-9695-744F00DC514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C203D7-837D-4A47-ADA7-0F3EE421E14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FBCC5-0F82-4FF2-95AF-13458DCD54E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9F9C9-858F-454B-8757-3D779E3DC2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2D7C4-57B7-4844-B49E-CB6B9E4662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0D5BC-898E-4573-8349-6885E37226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7021D-6038-4FA1-A98E-07BB191CC0A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28A24-EE1A-46AA-ADE9-1B45897FA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5F3-15AE-41A2-AAFC-9133874F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A3E22-8E5E-4562-87EF-323D18AC9C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E57-D3DC-441E-81E1-1A60E2E1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C08-5CC5-4A9E-A8CD-96CBEDA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DDA-C5CE-4545-BF93-0764AF0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C82E-9B15-4BD4-81E3-02799F0B39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2253-9E33-4770-8A92-226A88EC1A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D816-D1EA-4728-A4E0-1A9C6CFB5A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4917-F7EF-4446-BAC0-185AD1494C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rz@itrus.com.cn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USBKey</a:t>
            </a: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智能卡介质解锁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解锁办理条件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14240" y="135720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存储数字证书的专用硬件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什么情况解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供应商连续输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密码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被锁定无法使用，需要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进行解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日常使用的数字证书客户端工具中，在证书服务中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解锁需要申请资料并进行填写，填写的信息确认与公司信息一致后在线提交解锁申请更新数字证书；申请材料包括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申请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324000" y="2735280"/>
            <a:ext cx="8435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扫描件或电子照片，发送到邮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rz@itrus.com.c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邮件主题注明“某某公司解锁申请凭证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的电子材料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解锁工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解锁办理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1098720" y="2924280"/>
            <a:ext cx="8065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解锁收费标准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次，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解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锁资料接收邮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rz@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58Z</dcterms:modified>
  <cp:revision>197</cp:revision>
  <dc:subject/>
  <dc:title>幻灯片 1</dc:title>
</cp:coreProperties>
</file>