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87AD-E49F-4621-AC65-D10359B657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289C-3249-4041-A83F-792458DDD1D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361D-3943-4744-BC7A-C82AE70EC13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A5D-D81C-4D5B-A0A9-FCC2732E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0F6-A296-47BD-B158-DE8E41D6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A0412-7DDF-42CF-925E-11EE78023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DFA-C384-416E-A7D1-1AA72AFB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34499-E0FA-4B76-B9AC-E9D005B31A7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0336E-53CF-4C32-B6AC-997E62FCB3C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E76D3-DC24-4C2F-BD68-A30609A2553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3FD6A-1082-4BF8-BEB9-FB8975CA970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0D82F-D5A2-4FEE-8D30-B4B6B343CAA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A3FDA-4CF2-4CE1-AD45-B4F1419FB0E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F2707-26DE-4E94-91FF-BD0DBD0D9A4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A205A-E7E0-4465-BAE9-56228C2FC0D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CC581-B67F-47D7-8E1F-18C65FF5947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533F5-71A8-439C-A089-7A39D34FD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6BC1-3058-412A-BB7A-B9B2CC15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5C19A-ABD3-43C7-85C3-F54C6881124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B9A-D77E-4755-BC45-E82FCD8B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D50-6813-4116-B0A1-6EF3B0AB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DFBCE-94B3-4C80-8199-2300BBCFD8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9AC46-D615-4CF8-81AF-D418010F63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A39EF-57F8-44CE-90F9-6A29A8197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FD2A-617B-4E10-B5EE-720FDDA9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75DE0-E64A-4A6D-8AC3-2D18D393F40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49E1D-192C-4132-BDDA-A3D89C0FB6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C0549-8944-44A6-8294-5CE5AB84A1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01957-2E87-4BD2-95A0-0501C38BD0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A6348-2A5D-4969-A9DD-DA119C55B7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CFDDE-A0A4-4ADC-8DAB-1C7C97891E1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8D7AE-ECF1-4351-867D-6DFBB9A983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D2821-046E-423E-A4DF-9083AD680C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1B059-8C7A-4EC1-92D2-60B2D7AA37A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B42954-583E-4380-9B25-930161499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4DD2-2ACB-4643-A468-F91164B0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571D07-3A9D-4964-B4B8-676860F8F35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6323A0-9CD0-4B5F-ABF6-67CBD834668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09C55E-5D8A-4AE1-8D7D-74468550FC2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863757-8EE0-48B9-97D4-F256B46ED1F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6E81CC-7893-493E-81CB-2FD4B8E6B6A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DA5EFC-8848-46FC-AD54-558CE33E015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BB81C7-5579-42D1-8A0F-E29C6B51E59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63C9AC-3071-47F7-B7FA-CECD01E7E7B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52D6F6-B7DC-4443-9AF9-F9A06AF4673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4DB733-7774-45CB-A9A0-71EED9AC7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4B1-76D7-41F1-8E85-E4278C0E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14043D-38A5-4AC7-A896-99BF0AD3C18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E79-42A2-4FDB-B14A-30A10987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DD5C-7E50-4630-9093-968DDBFC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806-0424-4509-81AD-938CB778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46A1-1D7A-4D61-82E8-D56CCBDA80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43D2-6CEC-419A-A529-403F6B8438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3394-325F-4CB7-B1F3-00F94BA7C8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E4B5-52A6-48C7-A5AD-3CF7A4CDC9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更新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更新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2349360"/>
            <a:ext cx="80643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数字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有效期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到期前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天内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需要更新数字证书，否则数字证书无法继续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52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数字证书客户端工具中，在证书服务中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4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056720" cy="45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更新证书申请资料并进行填写，填写的信息确认与公司信息一致后在线提交更新数字证书请求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2" descr=""/>
          <p:cNvPicPr/>
          <p:nvPr/>
        </p:nvPicPr>
        <p:blipFill>
          <a:blip r:embed="rId1"/>
          <a:stretch/>
        </p:blipFill>
        <p:spPr>
          <a:xfrm>
            <a:off x="225360" y="2735280"/>
            <a:ext cx="83329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数字证书更新密码邮件发送给供应商，并短信通知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接收天威诚信更新密码通知邮件，按照邮件说明完成在线更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642960" y="1500120"/>
            <a:ext cx="8066160" cy="35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数字证书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8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开始日期从证书更新成功之日开始计算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注：要求供应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未损坏并可继续使用，如损坏，则按照初次办理流程进行收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更新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8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24Z</dcterms:modified>
  <cp:revision>231</cp:revision>
  <dc:subject/>
  <dc:title>幻灯片 1</dc:title>
</cp:coreProperties>
</file>